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D1F-EFD2-49F9-BA66-6101575D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2D1-22A2-4B46-914F-4C88EA2D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CAE-3E12-4CDD-91C9-2D36A492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E9A-6896-41E7-B461-589BFAA9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BC9-1ADA-42B0-B562-C1BFE262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25B-F72B-40DE-A577-B1BD1DC5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D2F-E9B6-4538-A94F-D426D30D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2CD-BCAE-436E-B6B6-65F2C780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079-7FE2-4966-B6BB-93EE10D5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7CF-BEC6-452F-96E6-F38905D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626-D43E-469B-8A72-6B0BF9A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47B-8AB2-42A0-825A-CA1B2F7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C0F8-891E-4026-B628-9D39C112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iol.yorku.ca/" TargetMode="External"/><Relationship Id="rId2" Type="http://schemas.openxmlformats.org/officeDocument/2006/relationships/hyperlink" Target="http://www.biol.yorku.ca/index.php?option=com_content&amp;view=category&amp;layout=blog&amp;id=9&amp;Itemid=9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logy-nation.com/Biology_by_Cours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hat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hat are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functions of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functions of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es, itches, and 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the anatomy plagued by irr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htnocro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es, itches, and 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the anatomy plagued by irr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htnocro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 fruits with a yellow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 fruits with a yellow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wn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wn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ic au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human body related to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ca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that caus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car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that caus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website for creating or finding flashcards for 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a university near you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.yorku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divisions in bi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ol.yorku.ca/index.php?option=com_content&amp;view=category&amp;layout=blog&amp;id=9&amp;Itemid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re complete l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-nation.com/Biology_by_Cours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ic au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human body related to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rtificial 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&amp; development of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&amp; development of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ands and hormones of the   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the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lands and hormone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ide of the 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2-09-06T12:29:18Z</dcterms:modified>
  <cp:revision>69</cp:revision>
  <dc:subject/>
  <dc:title>Biology Disciplines</dc:title>
</cp:coreProperties>
</file>